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B21-9D7A-4FAF-A8C2-6A8652F2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0C6-3D80-41A2-B0CE-496CF889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C5A-4D0B-4DDC-9027-328CF90A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CE6-98F8-4A26-A274-FFE33217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B2B-41C4-438F-BDF1-6D7A06C7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344-CCE2-4488-9F80-76FDE21A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175-2394-4853-9A96-F70FED49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2F93-1E50-42ED-9D87-6F63D6B4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CAE-90CA-43FA-A9A6-F564D46D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642-F888-4E5A-9AAB-04701D5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EF6-3615-46A4-9F72-78789EC5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AA7-D6C3-4A25-80E7-901C5854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41C7B-EC6F-43A6-98B6-3455F7142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666576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28800" y="2727360"/>
            <a:ext cx="387504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 Web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sh Good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A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59984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t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ine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bernate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atis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::DBI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ware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(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web services are incompa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ryone uses Chado (nor will th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PIs are language or system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light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ful (GET, POST, etc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data model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high level cross database 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ed URLs for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lists (XML, JSON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s in Generic Gene Page (GGP)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27240"/>
            <a:ext cx="907092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full text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fulltext/RNA%20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ntology/mitotic%20spindle%20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rthologs/WBGene000065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 retrieval (GGP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fetch/FBgn0026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make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interes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22:04:49Z</dcterms:created>
  <dc:creator>Josh Goodman</dc:creator>
  <dc:description/>
  <dc:language>en-US</dc:language>
  <cp:lastModifiedBy/>
  <dcterms:modified xsi:type="dcterms:W3CDTF">2009-01-15T18:11:25Z</dcterms:modified>
  <cp:revision>14</cp:revision>
  <dc:subject/>
  <dc:title/>
</cp:coreProperties>
</file>